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31A00-821A-4D19-9F9A-F98C79136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A49-505A-4446-9F33-5B033D1F9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2A93-4B00-4047-91AE-21C21A128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583F-18C9-491F-A53B-60BD657A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6BF4-4E5C-4206-8F8E-BF5FBA33D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FC6F-55C7-46DB-9DD9-89E794450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A3B5-6B78-4CC6-A7CF-A20D49D33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B62B-4396-4F2A-9B05-7D88CCE2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BA75-3AA2-4997-B4DA-ECDE80569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0F9F3-3ADC-47EE-A2F1-AB2704966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7952-1DEA-44EA-B8F4-1B4649728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3612-9150-4D81-AC0A-6775E6B30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A667-1D02-4CE9-9EAA-B0DD7D22C1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603400">
            <a:off x="3740760" y="993600"/>
            <a:ext cx="114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Calibri"/>
                <a:ea typeface="Arial"/>
              </a:rPr>
              <a:t>To beh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Calibri"/>
                <a:ea typeface="Arial"/>
              </a:rPr>
              <a:t>wel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9"/>
          <p:cNvSpPr/>
          <p:nvPr/>
        </p:nvSpPr>
        <p:spPr>
          <a:xfrm>
            <a:off x="2870280" y="2438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0"/>
          <p:cNvSpPr/>
          <p:nvPr/>
        </p:nvSpPr>
        <p:spPr>
          <a:xfrm rot="2868000">
            <a:off x="2808360" y="342072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  <a:ea typeface="Arial"/>
              </a:rPr>
              <a:t>To b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  <a:ea typeface="Arial"/>
              </a:rPr>
              <a:t>successfu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8"/>
          <p:cNvSpPr/>
          <p:nvPr/>
        </p:nvSpPr>
        <p:spPr>
          <a:xfrm>
            <a:off x="2666880" y="312408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3"/>
          <p:cNvSpPr/>
          <p:nvPr/>
        </p:nvSpPr>
        <p:spPr>
          <a:xfrm>
            <a:off x="3951360" y="4419720"/>
            <a:ext cx="113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4"/>
          <p:cNvSpPr/>
          <p:nvPr/>
        </p:nvSpPr>
        <p:spPr>
          <a:xfrm>
            <a:off x="7543800" y="350532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15"/>
          <p:cNvSpPr/>
          <p:nvPr/>
        </p:nvSpPr>
        <p:spPr>
          <a:xfrm flipV="1">
            <a:off x="7229520" y="2180880"/>
            <a:ext cx="136044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7"/>
          <p:cNvSpPr/>
          <p:nvPr/>
        </p:nvSpPr>
        <p:spPr>
          <a:xfrm flipV="1">
            <a:off x="6172200" y="2219040"/>
            <a:ext cx="826920" cy="59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9"/>
          <p:cNvSpPr/>
          <p:nvPr/>
        </p:nvSpPr>
        <p:spPr>
          <a:xfrm>
            <a:off x="6815160" y="4386240"/>
            <a:ext cx="83016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2"/>
          <p:cNvSpPr/>
          <p:nvPr/>
        </p:nvSpPr>
        <p:spPr>
          <a:xfrm rot="771000">
            <a:off x="4246200" y="2585880"/>
            <a:ext cx="57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niec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3"/>
          <p:cNvSpPr/>
          <p:nvPr/>
        </p:nvSpPr>
        <p:spPr>
          <a:xfrm>
            <a:off x="3817800" y="2867040"/>
            <a:ext cx="1132200" cy="20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5"/>
          <p:cNvSpPr/>
          <p:nvPr/>
        </p:nvSpPr>
        <p:spPr>
          <a:xfrm>
            <a:off x="5493240" y="287640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9646"/>
                </a:solidFill>
                <a:latin typeface="Calibri"/>
                <a:ea typeface="Arial"/>
              </a:rPr>
              <a:t>bab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6"/>
          <p:cNvSpPr/>
          <p:nvPr/>
        </p:nvSpPr>
        <p:spPr>
          <a:xfrm>
            <a:off x="7803360" y="28447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Do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7"/>
          <p:cNvSpPr/>
          <p:nvPr/>
        </p:nvSpPr>
        <p:spPr>
          <a:xfrm rot="2240400">
            <a:off x="2596320" y="2300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To tel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 </a:t>
            </a: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jok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0"/>
          <p:cNvSpPr/>
          <p:nvPr/>
        </p:nvSpPr>
        <p:spPr>
          <a:xfrm>
            <a:off x="6386400" y="3324240"/>
            <a:ext cx="844560" cy="56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2"/>
          <p:cNvSpPr/>
          <p:nvPr/>
        </p:nvSpPr>
        <p:spPr>
          <a:xfrm rot="1984200">
            <a:off x="6176520" y="9378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  <a:ea typeface="Arial"/>
              </a:rPr>
              <a:t>To sm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3"/>
          <p:cNvSpPr/>
          <p:nvPr/>
        </p:nvSpPr>
        <p:spPr>
          <a:xfrm>
            <a:off x="4898880" y="390600"/>
            <a:ext cx="12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To jum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r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4"/>
          <p:cNvSpPr/>
          <p:nvPr/>
        </p:nvSpPr>
        <p:spPr>
          <a:xfrm rot="849000">
            <a:off x="6134040" y="264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  <a:ea typeface="Arial"/>
              </a:rPr>
              <a:t>To f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041800" y="4649760"/>
            <a:ext cx="15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  <a:ea typeface="Arial"/>
              </a:rPr>
              <a:t>Great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  <a:ea typeface="Arial"/>
              </a:rPr>
              <a:t>grandfath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4"/>
          <p:cNvSpPr/>
          <p:nvPr/>
        </p:nvSpPr>
        <p:spPr>
          <a:xfrm rot="4419000">
            <a:off x="4505400" y="3656520"/>
            <a:ext cx="15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g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5-Point Star 1"/>
          <p:cNvSpPr/>
          <p:nvPr/>
        </p:nvSpPr>
        <p:spPr>
          <a:xfrm>
            <a:off x="5691240" y="3414600"/>
            <a:ext cx="571320" cy="441360"/>
          </a:xfrm>
          <a:custGeom>
            <a:avLst/>
            <a:gdLst/>
            <a:ahLst/>
            <a:rect l="l" t="t" r="r" b="b"/>
            <a:pathLst>
              <a:path w="571500" h="441325">
                <a:moveTo>
                  <a:pt x="1" y="168571"/>
                </a:moveTo>
                <a:lnTo>
                  <a:pt x="218295" y="168572"/>
                </a:lnTo>
                <a:lnTo>
                  <a:pt x="285750" y="0"/>
                </a:lnTo>
                <a:lnTo>
                  <a:pt x="353205" y="168572"/>
                </a:lnTo>
                <a:lnTo>
                  <a:pt x="571499" y="168571"/>
                </a:lnTo>
                <a:lnTo>
                  <a:pt x="394895" y="272753"/>
                </a:lnTo>
                <a:lnTo>
                  <a:pt x="462353" y="441324"/>
                </a:lnTo>
                <a:lnTo>
                  <a:pt x="285750" y="337140"/>
                </a:lnTo>
                <a:lnTo>
                  <a:pt x="109147" y="441324"/>
                </a:lnTo>
                <a:lnTo>
                  <a:pt x="176605" y="272753"/>
                </a:lnTo>
                <a:lnTo>
                  <a:pt x="1" y="16857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5"/>
          <p:cNvSpPr/>
          <p:nvPr/>
        </p:nvSpPr>
        <p:spPr>
          <a:xfrm rot="1287600">
            <a:off x="6328080" y="324468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To have fu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5"/>
          <p:cNvSpPr/>
          <p:nvPr/>
        </p:nvSpPr>
        <p:spPr>
          <a:xfrm rot="771000">
            <a:off x="6492960" y="381456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twi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5"/>
          <p:cNvSpPr/>
          <p:nvPr/>
        </p:nvSpPr>
        <p:spPr>
          <a:xfrm rot="19648200">
            <a:off x="5726880" y="2209680"/>
            <a:ext cx="12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La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6"/>
          <p:cNvSpPr/>
          <p:nvPr/>
        </p:nvSpPr>
        <p:spPr>
          <a:xfrm rot="21190200">
            <a:off x="4955760" y="19936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  <a:ea typeface="Arial"/>
              </a:rPr>
              <a:t>To figh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7"/>
          <p:cNvSpPr/>
          <p:nvPr/>
        </p:nvSpPr>
        <p:spPr>
          <a:xfrm rot="21190200">
            <a:off x="4199400" y="4578480"/>
            <a:ext cx="96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Friendshi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7766280" y="222876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  <a:ea typeface="Arial"/>
              </a:rPr>
              <a:t>To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9"/>
          <p:cNvSpPr/>
          <p:nvPr/>
        </p:nvSpPr>
        <p:spPr>
          <a:xfrm rot="1135800">
            <a:off x="3734280" y="315432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grandchi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1"/>
          <p:cNvSpPr/>
          <p:nvPr/>
        </p:nvSpPr>
        <p:spPr>
          <a:xfrm rot="20742600">
            <a:off x="5646240" y="406368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girlfrien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7493040" y="1501920"/>
            <a:ext cx="72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dra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3996720" y="391320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To bui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6"/>
          <p:cNvSpPr/>
          <p:nvPr/>
        </p:nvSpPr>
        <p:spPr>
          <a:xfrm rot="1067400">
            <a:off x="7500240" y="3500280"/>
            <a:ext cx="116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9646"/>
                </a:solidFill>
                <a:latin typeface="Calibri"/>
                <a:ea typeface="Arial"/>
              </a:rPr>
              <a:t>Brother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9646"/>
                </a:solidFill>
                <a:latin typeface="Calibri"/>
                <a:ea typeface="Arial"/>
              </a:rPr>
              <a:t>in-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9646"/>
                </a:solidFill>
                <a:latin typeface="Calibri"/>
                <a:ea typeface="Arial"/>
              </a:rPr>
              <a:t>la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6"/>
          <p:cNvSpPr/>
          <p:nvPr/>
        </p:nvSpPr>
        <p:spPr>
          <a:xfrm rot="1067400">
            <a:off x="6986160" y="4447800"/>
            <a:ext cx="118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Stepmoth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6"/>
          <p:cNvSpPr/>
          <p:nvPr/>
        </p:nvSpPr>
        <p:spPr>
          <a:xfrm rot="2699400">
            <a:off x="6519960" y="4681440"/>
            <a:ext cx="78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Stuff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anim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36360" y="5297400"/>
            <a:ext cx="37609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20:40:20Z</dcterms:created>
  <dc:creator>Heffernen, Heather</dc:creator>
  <dc:description/>
  <dc:language>en-US</dc:language>
  <cp:lastModifiedBy>Prine, Stephanie</cp:lastModifiedBy>
  <dcterms:modified xsi:type="dcterms:W3CDTF">2016-01-27T16:23:59Z</dcterms:modified>
  <cp:revision>23</cp:revision>
  <dc:subject/>
  <dc:title>PowerPoint Presentation</dc:title>
</cp:coreProperties>
</file>